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DD48-139A-4164-B99B-67DC10082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3332-96E9-4A4F-A3B3-48909F94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087F-7ADE-443E-92C7-6B99C5615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00E4-2F92-49CF-9698-106701445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8792-308F-49F8-858F-D189D9B0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A244-C0F7-4B5D-A43A-078F87D1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3797-ADAC-4542-BFAE-969B56B0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EDCC-A923-40E4-97C5-96B6C8CB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2432-DB1C-49B3-BB68-8C6CEB2C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DF47-95D1-48DF-8D21-A835375C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9C26-9808-43DA-9613-3509DAEF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D5AF-81BA-443B-9116-65118AF8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55F1-FD02-4F96-AF20-A1B64E574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es Future Home Networking Look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lu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id Cy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Technology Labora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2514600" cy="538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086600" y="5638680"/>
            <a:ext cx="173664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uetooth protocols (co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Radi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Baseban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Link Manager Protocol (LMP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Logical Link Control and Adaptation Protocol (L2CAP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ost Control Interface (HCI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ervice Discovery Protocol (SDP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RFCOM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IrDA Interoperabilit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elephony Control Protocol (TCP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est Mo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35863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uetooth (picone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co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 Master &amp; 1-7 Slav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 Master &amp; 1-3 Slav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 Master &amp; 1-* Slav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3429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uetooth (scatterne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t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 Masters &amp; ???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 Masters &amp; 1 Slave using HV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71480" y="1747800"/>
            <a:ext cx="369108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ance te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ous Baseband packet types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 3, and 10 meter distances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ers’ kit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ous environments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ance data (hallwa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ignificant difference whether Master or Sl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meter distance appears to have lowest average packet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ignificant Packet loss difference as distances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648320" y="1982880"/>
          <a:ext cx="3803400" cy="41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2880"/>
                    <a:ext cx="380340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ance dat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ith microwav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impact at only 1 meter distance between Master and Slave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648320" y="1982880"/>
          <a:ext cx="3803400" cy="41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2880"/>
                    <a:ext cx="380340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572000" y="2133720"/>
          <a:ext cx="4114800" cy="4190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133720"/>
                    <a:ext cx="41148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ance data (countr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not reach 10 meters, only 8.36 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error differences with change in d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648320" y="1981080"/>
          <a:ext cx="38084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3808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bility of technologies to home de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523880" y="2066760"/>
          <a:ext cx="7086600" cy="546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066760"/>
                    <a:ext cx="7086600" cy="546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bility of technologies to home de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447920" y="2057400"/>
          <a:ext cx="7086600" cy="54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057400"/>
                    <a:ext cx="70866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bility of technologies to home de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447920" y="2057400"/>
          <a:ext cx="7086600" cy="54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057400"/>
                    <a:ext cx="70866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vices in the h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thing that runs on electr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leph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onal computer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lev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- &amp; DVD-p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reo/ra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ity system &amp; sen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-so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b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rage d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g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ting &amp; air conditio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sher/dr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tchen appli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connect devices in the h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ble repla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ck of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alize control (remote contr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services or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evices to connect in the h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 set to Cra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dle to Access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board, Mouse, Monitor, Printer, etc. to Personal 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 to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visions to remote or signal receiver (i.e antenna, cable, satell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/Off button to bell, lights, garage door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arms or indications to single point (i.e. human or control pan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- &amp; DVD-players and stereo/radio to remotes, head sets, and spea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onnect devices in the h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bles (Coax, Twisted pair, oth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ephone wiring (HomePN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reless (HomeRF &amp; Bluetoot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P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PNA 2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r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Mbit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 existing phone w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85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PNA 1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bit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 existing phone w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R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P 1.0 ($500.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xing sc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DMA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A/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r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8 Mbit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6 Mbit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 K ADP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conn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P 2.0 ($2500.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xing sche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DM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A/CA,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ority CD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Mbit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Mbit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 K ADP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 conn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R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16040" y="2374920"/>
            <a:ext cx="771048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uetoo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e 1.0, 1.0A, 1.0B, &amp; 1.1 (fr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xing sc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D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33.9 kbit/s max sym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3.2 kbit/s max asym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kbit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,2, or 3 conn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29:37Z</dcterms:created>
  <dc:creator>David Cypher</dc:creator>
  <dc:description/>
  <dc:language>en-US</dc:language>
  <cp:lastModifiedBy> </cp:lastModifiedBy>
  <cp:lastPrinted>2001-10-18T20:48:40Z</cp:lastPrinted>
  <dcterms:modified xsi:type="dcterms:W3CDTF">2007-02-21T14:38:08Z</dcterms:modified>
  <cp:revision>124</cp:revision>
  <dc:subject/>
  <dc:title>What to Expect When You Cannot Start at the Beginning</dc:title>
</cp:coreProperties>
</file>